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E5A3-AD30-4561-9531-8D3560A89CC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A97F-244C-4E24-BFFE-BE89C60905F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46B-6559-4C12-AB02-5795AB35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9808-2F94-49F1-828F-8D186C05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61B-E509-4F7D-B7F8-3C494BDC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FE5B-5898-4BDB-8D39-8A230DED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1E35-E778-4D9F-8454-7B59316B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BF1F-F02B-4977-A19B-A629F051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0022-F5C5-426A-8E73-D9021A91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F43F-7AE7-437A-A27C-86AE73CD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27E4-21A1-4E80-A95D-60F9250A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3115-164F-4709-9E01-256F99A4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139F-B276-44D7-914D-B6391286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E25-BBFB-4952-AAD9-F540C31E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5B8D-9B7F-4F3A-9620-AF29D010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6A9C-8A08-4BF7-8F63-7F7B915C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CFED-2596-4CC6-B36A-CC0E371A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EBF6-D484-4D8C-BDCF-FAF81A4C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0903-0D79-49C3-B283-AC306210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45F-069C-4368-9D8D-7EC2B795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37E-AD2F-49BA-9514-5B18EB78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5666-E3A1-4E77-AA83-7A41E70B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0572-FF56-4164-8742-183502F0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017-D665-4C38-8113-71F983CC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2FF-9F9B-4FC7-838E-5E43BCAC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F7D-8621-4F4D-A3B5-BE557CDE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5A67-D8A1-4821-90FE-C1F0F76ECAF3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5F38-2415-40A4-9513-89BBE823BC1F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750F-B730-4F7D-BC55-2BD0E8572461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7E81-7592-4E8F-AC6A-1C2587E6DB6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8EC8-4EBE-4361-A8BE-D66A89A71087}" type="datetime">
              <a:rPr b="0" lang="sl-SI" sz="1000" spc="-1" strike="noStrike">
                <a:solidFill>
                  <a:srgbClr val="00206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ACF0-F384-4B5E-9C88-855E4D9CA4A4}" type="slidenum">
              <a:rPr b="0" lang="sl-SI" sz="10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a2"/>
                </a:solidFill>
                <a:latin typeface="Century Gothic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OP RR in OP ROPI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F135-50D2-4B3C-B1F4-A12E002E5920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5907-C9EA-4933-9DE6-C955BE6EE07D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08000" y="3152880"/>
          <a:ext cx="5400720" cy="20732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ES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63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8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9"/>
          <p:cNvSpPr/>
          <p:nvPr/>
        </p:nvSpPr>
        <p:spPr>
          <a:xfrm>
            <a:off x="1932480" y="214956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OPI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1795320" y="2865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9CDF-AF18-426A-BF88-0395DAA19AFF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A296-01CE-4E09-AD1D-DF4550D4384E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348560" y="157464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OPI 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11040" y="23018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684360" y="5972040"/>
            <a:ext cx="73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: 27% KS oz. 45% ESR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V letošnjem letu se N+2/3 na OP ROPI KS z 293 mio € zniža za 206 mio € (čl. 94 uredbe ES 1083/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333360" y="2630520"/>
            <a:ext cx="7777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FDC2-09CC-4050-8815-B960B15284DF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5FE1-EE4F-445C-ACF3-63B6BED6F972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272600" y="193356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2936880"/>
          <a:ext cx="8209080" cy="15541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E</a:t>
                      </a:r>
                      <a:r>
                        <a:rPr b="0" lang="sl-SI" sz="2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R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6,3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,3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1,6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,7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9"/>
          <p:cNvSpPr/>
          <p:nvPr/>
        </p:nvSpPr>
        <p:spPr>
          <a:xfrm>
            <a:off x="450720" y="4881600"/>
            <a:ext cx="188136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 Unicode MS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262080" y="5416560"/>
            <a:ext cx="565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3 na dan 30.  4.  2014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KS:                         0,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ESRR:                     0,0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B457-29E7-46A4-8188-40C72788E81F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4672-94F2-48F2-A2FC-D4E084FD18FF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767520" y="106524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490680" y="1641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582480" y="1919160"/>
            <a:ext cx="4535640" cy="216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4211640" y="4449600"/>
            <a:ext cx="4189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139A-CAE3-4F8C-A264-3CDAC90277C1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F1E7-E088-48B0-B90F-A763996FF568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3528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080"/>
                <a:gridCol w="208764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3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2133360" y="19512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R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763640" y="2649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143800" y="4498920"/>
            <a:ext cx="50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Število prejetih ZzP v l. 2014: 341 v vrednosti 63,5 mio EUR</a:t>
            </a:r>
            <a:r>
              <a:rPr b="0" lang="sl-SI" sz="1600" spc="-1" strike="noStrike">
                <a:solidFill>
                  <a:srgbClr val="003366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D96B-AD1D-4532-AA50-6C8606653C7A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4274-C4F3-43CA-AF5B-20CCA0D5F3CA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1347840" y="157464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R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10960" y="29210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387360" y="56325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 na dan 30. 4. 2014:  73,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250920" y="3240000"/>
            <a:ext cx="8296200" cy="2276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C5D6-12CF-42CC-AA14-745636AF915E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0EDD-4DDE-46E0-A8F2-A17845FCDCC9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271520" y="193356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47"/>
          <p:cNvSpPr/>
          <p:nvPr/>
        </p:nvSpPr>
        <p:spPr>
          <a:xfrm>
            <a:off x="1307520" y="4791240"/>
            <a:ext cx="166968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Calibri"/>
                <a:ea typeface="Calibri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1258920" y="55292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4 na dan 30. 4. 2014: 0,00% (zaustavitev plačil E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D0C9-E2D6-4D92-8E0A-69AC8C952992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E04D-F2CF-4FCC-83FC-3F37BDC03D40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236320" y="200196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"/>
          <p:cNvGrpSpPr/>
          <p:nvPr/>
        </p:nvGrpSpPr>
        <p:grpSpPr>
          <a:xfrm>
            <a:off x="324000" y="3081240"/>
            <a:ext cx="8100720" cy="3235320"/>
            <a:chOff x="324000" y="3081240"/>
            <a:chExt cx="8100720" cy="3235320"/>
          </a:xfrm>
        </p:grpSpPr>
        <p:pic>
          <p:nvPicPr>
            <p:cNvPr id="126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3713040"/>
              <a:ext cx="8100720" cy="26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340920" y="3081240"/>
              <a:ext cx="8036640" cy="6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AAEE-A3E1-4CAD-8D57-E08A89E2DE59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F78E-F8D2-4F16-AD13-26406889D0EC}" type="slidenum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1569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592200" y="1149480"/>
            <a:ext cx="77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468360" y="1857240"/>
            <a:ext cx="4681440" cy="2492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3794040" y="4378320"/>
            <a:ext cx="4683240" cy="2863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835F-5DDA-48FD-9036-D8F066F222F7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1FAD-3593-4F75-BB9B-211859C8FEA7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849320" y="1209600"/>
            <a:ext cx="49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"/>
          <p:cNvGrpSpPr/>
          <p:nvPr/>
        </p:nvGrpSpPr>
        <p:grpSpPr>
          <a:xfrm>
            <a:off x="411120" y="2352600"/>
            <a:ext cx="7915320" cy="3148200"/>
            <a:chOff x="411120" y="2352600"/>
            <a:chExt cx="7915320" cy="3148200"/>
          </a:xfrm>
        </p:grpSpPr>
        <p:pic>
          <p:nvPicPr>
            <p:cNvPr id="140" name="Picture 7" descr=""/>
            <p:cNvPicPr/>
            <p:nvPr/>
          </p:nvPicPr>
          <p:blipFill>
            <a:blip r:embed="rId1"/>
            <a:stretch/>
          </p:blipFill>
          <p:spPr>
            <a:xfrm>
              <a:off x="411120" y="2352600"/>
              <a:ext cx="791532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8" descr=""/>
            <p:cNvPicPr/>
            <p:nvPr/>
          </p:nvPicPr>
          <p:blipFill>
            <a:blip r:embed="rId2"/>
            <a:stretch/>
          </p:blipFill>
          <p:spPr>
            <a:xfrm>
              <a:off x="427320" y="2804760"/>
              <a:ext cx="7886880" cy="269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54CE-E9D1-4802-B20A-18D8ECDEC3DF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FA53-DC15-45E7-994F-0A06EF78C508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633680" y="120960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ES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"/>
          <p:cNvGrpSpPr/>
          <p:nvPr/>
        </p:nvGrpSpPr>
        <p:grpSpPr>
          <a:xfrm>
            <a:off x="108000" y="2217600"/>
            <a:ext cx="8543880" cy="2724120"/>
            <a:chOff x="108000" y="2217600"/>
            <a:chExt cx="8543880" cy="2724120"/>
          </a:xfrm>
        </p:grpSpPr>
        <p:pic>
          <p:nvPicPr>
            <p:cNvPr id="146" name="Picture 7" descr=""/>
            <p:cNvPicPr/>
            <p:nvPr/>
          </p:nvPicPr>
          <p:blipFill>
            <a:blip r:embed="rId1"/>
            <a:stretch/>
          </p:blipFill>
          <p:spPr>
            <a:xfrm>
              <a:off x="108000" y="2217600"/>
              <a:ext cx="851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"/>
            <p:cNvPicPr/>
            <p:nvPr/>
          </p:nvPicPr>
          <p:blipFill>
            <a:blip r:embed="rId2"/>
            <a:stretch/>
          </p:blipFill>
          <p:spPr>
            <a:xfrm>
              <a:off x="108000" y="2865600"/>
              <a:ext cx="8543880" cy="20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3-06-04T06:50:20Z</cp:lastPrinted>
  <dcterms:modified xsi:type="dcterms:W3CDTF">2014-05-14T14:30:54Z</dcterms:modified>
  <cp:revision>232</cp:revision>
  <dc:subject/>
  <dc:title>Naslov</dc:title>
</cp:coreProperties>
</file>